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C9B2C-74E3-4FC8-ADB4-EB2BFBAAF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1EBB-9B76-4184-ABF3-05E72242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29A7D-3033-4080-8AA1-6A2EF5FA4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385F1-9D35-4C36-8D10-54C0773D8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4E1F9-F9BE-448C-BCD1-ED5203B87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B58B3-3CD7-4A99-AC44-01A8D7587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1B198-B3E7-4EFC-85CC-B96DA5317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A9F7F-978B-4406-9FFD-B0655DF62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5B147-0C4D-4725-A2FF-8C1DF0886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1A86F-21C3-4151-8798-8B5C59A50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8855D-43DB-4C8E-8932-85CFA96DF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4FE3B-1304-4E1E-B850-B7276D922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3B9F9-6C0A-4735-97B1-08668BB00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7CD0-C1AA-41BB-8C39-59125D45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62EA5-25E6-43B5-9A54-3A7F44B9F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BD62A-61CF-440F-A31B-1F4F62F2C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8E126-EA45-4024-91D0-96165CE62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9657-0AE7-44FF-957B-C8763255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56BB-41E6-4B78-BB10-AD64EDE08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06C8-B022-4E56-970A-67A81625C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5D8F-1867-4B43-BA8E-AA595A14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0E31-1F39-4B60-B0E0-3CD277DE4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CDC8-E731-4A4E-BBBE-8A001845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5C29-CAD9-43CD-AEA7-3A0F452BB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0917-9BEB-470C-B8F4-5428EC9A6D33}"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2BBE-CBF0-4347-ACC6-D45B43489C15}"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drowa-dieta.info/tag/tluszcze/"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zdrowieodchudzanie.pl/wlasciwy-tryb-zycia.ph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2189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POKARM JAKO ŹRÓDŁO ENERGII</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ekcja Profilaktyki Zdrowotnej</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SSE w Toruniu</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2025 r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Witamin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taminy są niezbędne do prawidłowego funkcjonowania wielu komórek organizmu. Praktycznie wszystkie witaminy dostarczane są z pożywieniem. Odpowiednia kombinacja spożywanych pokarmów zapewnia odpowiednią ilość witamin niezbędnych do prawidłowego funkcjonowania organizmu. Jedynie ludzie wyjątkowo słabi lub przewlekle chorzy potrzebują ich uzupełniania np. w postaci tabletek.</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Składniki mineralne</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kładniki mineralne podobnie jak witaminy są niezbędne do prawidłowego funkcjonowania organizmu. Znanych jest co najmniej 20 składników mineralnych, które biorą czynny udział w procesach zachodzących w organizmie. Odpowiednia kombinacja pokarmów dostarcza ich wystarczającą ilość. Mimo to występowanie niedoborów żelaza, jodu lub wapnia nie jest rzadkości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Głównymi</a:t>
            </a:r>
            <a:r>
              <a:rPr b="1" lang="pl-PL" sz="2400" spc="-1" strike="noStrike">
                <a:solidFill>
                  <a:srgbClr val="ffffff"/>
                </a:solidFill>
                <a:latin typeface="Arial"/>
              </a:rPr>
              <a:t> źródłami energii w pożywieniu </a:t>
            </a:r>
            <a:br>
              <a:rPr sz="2400"/>
            </a:br>
            <a:r>
              <a:rPr b="1" lang="pl-PL" sz="2400" spc="-1" strike="noStrike">
                <a:solidFill>
                  <a:srgbClr val="ffffff"/>
                </a:solidFill>
                <a:latin typeface="Arial"/>
              </a:rPr>
              <a:t>są węglowodany i tłuszcze.</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ęglowodany to skrobia i cukry zmagazynowane przez rośliny w nasionach i w bulwach.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ynika stąd, że węglowodany występują w produktach zbożowych, nasionach, warzywach i owocach. </a:t>
            </a:r>
            <a:br>
              <a:rPr sz="2400"/>
            </a:br>
            <a:r>
              <a:rPr b="0" lang="pl-PL" sz="2400" spc="-1" strike="noStrike">
                <a:solidFill>
                  <a:srgbClr val="ffffff"/>
                </a:solidFill>
                <a:latin typeface="Arial"/>
              </a:rPr>
              <a:t>W dodatku wszystkie pokarmy zawierające cukier są źródłem węglowodanów. Należą do nich mięso i mleko, </a:t>
            </a:r>
            <a:br>
              <a:rPr sz="2400"/>
            </a:br>
            <a:r>
              <a:rPr b="0" lang="pl-PL" sz="2400" spc="-1" strike="noStrike">
                <a:solidFill>
                  <a:srgbClr val="ffffff"/>
                </a:solidFill>
                <a:latin typeface="Arial"/>
              </a:rPr>
              <a:t>a zatem wszystkie produkty mleczne. Węglowodany są dla organizmu źródłem </a:t>
            </a:r>
            <a:r>
              <a:rPr b="0" lang="pl-PL" sz="2400" spc="-1" strike="noStrike" u="sng">
                <a:solidFill>
                  <a:srgbClr val="ffffff"/>
                </a:solidFill>
                <a:uFillTx/>
                <a:latin typeface="Arial"/>
              </a:rPr>
              <a:t>szybko otrzymywanej energii</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Okazuje się jednak że węglowodanów nie można zmagazynować w większych ilościach, zatem podstawowe </a:t>
            </a:r>
            <a:r>
              <a:rPr b="0" lang="pl-PL" sz="2400" spc="-1" strike="noStrike" u="sng">
                <a:solidFill>
                  <a:srgbClr val="ffffff"/>
                </a:solidFill>
                <a:uFillTx/>
                <a:latin typeface="Arial"/>
              </a:rPr>
              <a:t>zapasy energii pochodzą z tłuszczów</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występują w mięsie, nabiale, margarynach, rybach i niektórych roślinach strączkowy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04920"/>
            <a:ext cx="8534520" cy="62481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Spożywane pokarmy zbudowane są </a:t>
            </a:r>
            <a:br>
              <a:rPr sz="3200"/>
            </a:br>
            <a:r>
              <a:rPr b="0" lang="pl-PL" sz="3200" spc="-1" strike="noStrike">
                <a:solidFill>
                  <a:srgbClr val="ffffff"/>
                </a:solidFill>
                <a:latin typeface="Arial"/>
              </a:rPr>
              <a:t>z węglowodanów, białek i tłuszczów. Nie mogą one jednak być wykorzystane przez ustrój w swojej pierwotnej formie, lecz wcześniej muszą być rozłożone do składników prostych w procesie enzymatycznego rozkładu, który zachodzi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w układzie pokarmowym. Dopiero te proste składniki zostają wchłonięte z przewodu pokarmowego do krwi i chłonki i mogą zostać wykorzystane przez organizm jako źródło energii i materiał budulcow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Tłuszcze dzielimy na tłuszcze nasycone </a:t>
            </a:r>
            <a:br>
              <a:rPr sz="2400"/>
            </a:br>
            <a:r>
              <a:rPr b="1" lang="pl-PL" sz="2400" spc="-1" strike="noStrike">
                <a:solidFill>
                  <a:srgbClr val="ffffff"/>
                </a:solidFill>
                <a:latin typeface="Arial"/>
              </a:rPr>
              <a:t>i nienasycone, na tłuszcze pochodzenia zwierzęcego i tłuszcze pochodzenia roślinneg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asycone</a:t>
            </a:r>
            <a:r>
              <a:rPr b="0" lang="pl-PL" sz="2400" spc="-1" strike="noStrike">
                <a:solidFill>
                  <a:srgbClr val="ffffff"/>
                </a:solidFill>
                <a:latin typeface="Arial"/>
              </a:rPr>
              <a:t> podnoszą poziom cholesterolu we krwi, zwiększają również krzepliwość krwi podnosząc tym ryzyko miażdżycy tętnic, a tym samym zachorowania na zawał serca. Tłuszcze nasycone dostarczamy wraz z pożywieniem pochodzenia zwierzęcego np.: masło, śmietana, mięso szczególnie czerwone, kiełbasy, jaja. Znajdują się również </a:t>
            </a:r>
            <a:br>
              <a:rPr sz="2400"/>
            </a:br>
            <a:r>
              <a:rPr b="0" lang="pl-PL" sz="2400" spc="-1" strike="noStrike">
                <a:solidFill>
                  <a:srgbClr val="ffffff"/>
                </a:solidFill>
                <a:latin typeface="Arial"/>
              </a:rPr>
              <a:t>w ciastkach , słodyczach, czekoladzie i w produktach smażonych. Nie można oczywiście wykluczyć całkowicie tych potraw z dziennej diety, chociażby dlatego, że są cennym źródłem witamin rozpuszczanych w tłuszczach (A, D, E i K), ale należy spożywać je z umiarem. Możemy spożyć np. mleko o mniejszej zawartości tłuszczu, podobnie śmietanę czy jogur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1920" y="457200"/>
            <a:ext cx="8534520" cy="5673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ienasycone</a:t>
            </a:r>
            <a:r>
              <a:rPr b="0" lang="pl-PL" sz="2400" spc="-1" strike="noStrike">
                <a:solidFill>
                  <a:srgbClr val="ffffff"/>
                </a:solidFill>
                <a:latin typeface="Arial"/>
              </a:rPr>
              <a:t> obniżają poziom cholesterolu we krwi, a tym samym obniżają ryzyko występowania chorób naczyniowych. Są więc niezbędnymi tłuszczami dla prawidłowego funkcjonowania naszego organizmu. Niezbędne nienasycone kwasy tłuszczowe są konieczne do prawidłowego przebiegu wszystkich procesów </a:t>
            </a:r>
            <a:br>
              <a:rPr sz="2400"/>
            </a:br>
            <a:r>
              <a:rPr b="0" lang="pl-PL" sz="2400" spc="-1" strike="noStrike">
                <a:solidFill>
                  <a:srgbClr val="ffffff"/>
                </a:solidFill>
                <a:latin typeface="Arial"/>
              </a:rPr>
              <a:t>w organizmie. Szczególnie do utrzymania prawidłowego stanu skóry oraz do prawidłowej przemiany wodnej </a:t>
            </a:r>
            <a:br>
              <a:rPr sz="2400"/>
            </a:br>
            <a:r>
              <a:rPr b="0" lang="pl-PL" sz="2400" spc="-1" strike="noStrike">
                <a:solidFill>
                  <a:srgbClr val="ffffff"/>
                </a:solidFill>
                <a:latin typeface="Arial"/>
              </a:rPr>
              <a:t>i tłuszczowej. Nienasycone kwasy tłuszczowe maja również istotne działanie w zapobieganiu arteriosklerozy. Znajdziemy je w takich produktach jak: owoce, warzywa, drób, ryby, oleje roślinne ( kukurydziany, słonecznikowy, sojowy, oliwkowy, rzepakowy). Nienasycone kwasy tłuszczowe dostarczymy przede wszystkim z pożywieniem pochodzenia roślinnego.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zienne zapotrzebowanie na tłuszcze wynosi około 60 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609480"/>
            <a:ext cx="8229600" cy="563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Najgroźniejszy tłuszcz świat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zwyczailiśmy się do myśli, że w walce o szczupłą </a:t>
            </a:r>
            <a:br>
              <a:rPr sz="2400"/>
            </a:br>
            <a:r>
              <a:rPr b="0" lang="pl-PL" sz="2400" spc="-1" strike="noStrike">
                <a:solidFill>
                  <a:srgbClr val="ffffff"/>
                </a:solidFill>
                <a:latin typeface="Arial"/>
              </a:rPr>
              <a:t>i zdrową sylwetkę najważniejsze są kalorie. Większość diet zaleca, aby dokładnie wyliczać, ile w posiłku znajduje się kalorii, i gdy jest ich za dużo - eliminować je. Okazuje się jednak, że to zdecydowanie za mało. </a:t>
            </a:r>
            <a:br>
              <a:rPr sz="2400"/>
            </a:br>
            <a:br>
              <a:rPr sz="2400"/>
            </a:br>
            <a:r>
              <a:rPr b="0" lang="pl-PL" sz="2400" spc="-1" strike="noStrike">
                <a:solidFill>
                  <a:srgbClr val="ffffff"/>
                </a:solidFill>
                <a:latin typeface="Arial"/>
              </a:rPr>
              <a:t>Podczas zjazdu Amerykańskiego Stowarzyszenia Diabetologicznego, który odbywa się w Waszyngtonie, przedstawiono wyniki badań pokazujące, że ważna jest nie tylko ilość, ale również jakość tego, co jemy. Naukowcy z Wake Forest University dowiedli, że spożywanie pokarmu zawierającego tę samą ilość kalorii, lecz inne rodzaje tłuszczów może w różny sposób odbić się na naszej wadze i zdrowiu. Konkretnie chodzi o tzw. tłuszcze tr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u="sng">
                <a:solidFill>
                  <a:srgbClr val="86d1ec"/>
                </a:solidFill>
                <a:uFillTx/>
                <a:latin typeface="Arial"/>
                <a:hlinkClick r:id="rId1"/>
              </a:rPr>
              <a:t>Tłuszcze</a:t>
            </a:r>
            <a:r>
              <a:rPr b="1" lang="pl-PL" sz="2000" spc="-1" strike="noStrike">
                <a:solidFill>
                  <a:srgbClr val="ffffff"/>
                </a:solidFill>
                <a:latin typeface="Arial"/>
              </a:rPr>
              <a:t> trans</a:t>
            </a:r>
            <a:r>
              <a:rPr b="0" lang="pl-PL" sz="2000" spc="-1" strike="noStrike">
                <a:solidFill>
                  <a:srgbClr val="ffffff"/>
                </a:solidFill>
                <a:latin typeface="Arial"/>
              </a:rPr>
              <a:t> to bardzo niebezpieczny składnik produktu. Jest ich pełno w naszym pożywieniu, powodują wyjątkowo szybkie przybieranie na wadze i od dawna  mają opinię wroga serca.</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pl-PL" sz="2000" spc="-1" strike="noStrike">
                <a:solidFill>
                  <a:srgbClr val="ffffff"/>
                </a:solidFill>
                <a:latin typeface="Arial"/>
              </a:rPr>
              <a:t>Tłuszcze trans</a:t>
            </a:r>
            <a:r>
              <a:rPr b="0" lang="pl-PL" sz="2000" spc="-1" strike="noStrike">
                <a:solidFill>
                  <a:srgbClr val="ffffff"/>
                </a:solidFill>
                <a:latin typeface="Arial"/>
              </a:rPr>
              <a:t> powstają podczas utwardzania olejów roślinnych. Ten proces technologiczny jest powszechnie wykorzystywany w przemyśle spożywczym. W ten sposób robi się twarde margaryny i tłuszcze, które są  w ciasteczkach, frytkach, chipsach, chrupkach, fast foodach, batonikach nawet płatkach kukurydzi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	</a:t>
            </a:r>
            <a:r>
              <a:rPr b="0" lang="pl-PL" sz="2000" spc="-1" strike="noStrike">
                <a:solidFill>
                  <a:srgbClr val="ffffff"/>
                </a:solidFill>
                <a:latin typeface="Arial"/>
              </a:rPr>
              <a:t>Ale najwięcej jest ich w wyrobach cukierniczych. Dlaczego? Badania przeprowadzone na Wydziale Technologii Żywności SGGW wykazały, że tłuszcze trans bardzo poprawiają jakość ciast (im jest ich więcej, tym lepszy smak produktu). Niektóre takie produkty mogą mieć nawet ponad 50 proc. „złych” tłuszczy utwardz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Tłuszcze trans dlatego się tak dobrze przyjęły w gastronomi, ponieważ dobrze znoszą temperaturę pokojową  i można je długo przechowywać (płynne oleje szybko się psują). Dlatego tego typu tłuszczów powszechnie używa się na całym świecie. Są też składnikiem tzw. półproduktów i mrożone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DLACZEGO TŁUSZCZE TRANS SĄ TAKIE NIEBEZPIECZNE?</a:t>
            </a:r>
            <a:endParaRPr b="0" lang="en-US" sz="2000" spc="-1" strike="noStrike">
              <a:solidFill>
                <a:srgbClr val="ffffff"/>
              </a:solidFill>
              <a:latin typeface="Arial"/>
            </a:endParaRPr>
          </a:p>
          <a:p>
            <a:pPr marL="343080" indent="10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ą szybkie przybieranie na wadze. </a:t>
            </a:r>
            <a:endParaRPr b="0" lang="en-US" sz="2000" spc="-1" strike="noStrike">
              <a:solidFill>
                <a:srgbClr val="ffffff"/>
              </a:solidFill>
              <a:latin typeface="Arial"/>
            </a:endParaRPr>
          </a:p>
          <a:p>
            <a:pPr marL="343080" indent="10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e przesunięcie się tkanki tłuszczowej w rejon brzucha. </a:t>
            </a:r>
            <a:endParaRPr b="0" lang="en-US" sz="2000" spc="-1" strike="noStrike">
              <a:solidFill>
                <a:srgbClr val="ffffff"/>
              </a:solidFill>
              <a:latin typeface="Arial"/>
            </a:endParaRPr>
          </a:p>
          <a:p>
            <a:pPr marL="343080" indent="10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takują tkankę mózgu (mącą myśli i upośledzają pamięć) -uszkadzają białko komórek. nerwowych mózgu i wywołują w nich stan zapalny. </a:t>
            </a:r>
            <a:endParaRPr b="0" lang="en-US" sz="2000" spc="-1" strike="noStrike">
              <a:solidFill>
                <a:srgbClr val="ffffff"/>
              </a:solidFill>
              <a:latin typeface="Arial"/>
            </a:endParaRPr>
          </a:p>
          <a:p>
            <a:pPr marL="343080" indent="10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zwiększają ryzyko choroby niedokrwiennej serca </a:t>
            </a:r>
            <a:endParaRPr b="0" lang="en-US" sz="2000" spc="-1" strike="noStrike">
              <a:solidFill>
                <a:srgbClr val="ffffff"/>
              </a:solidFill>
              <a:latin typeface="Arial"/>
            </a:endParaRPr>
          </a:p>
          <a:p>
            <a:pPr marL="343080" indent="10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częstą są przyczyną cukrzyc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Arial"/>
              </a:rPr>
              <a:t>Podsumowanie:</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 więc następnym razem gdy b,ędziemy robić zakupy musimy być bardzo uważni, ponieważ tłuszcze trans mogą występować </a:t>
            </a:r>
            <a:br>
              <a:rPr sz="2000"/>
            </a:br>
            <a:r>
              <a:rPr b="0" lang="pl-PL" sz="2000" spc="-1" strike="noStrike">
                <a:solidFill>
                  <a:srgbClr val="ffffff"/>
                </a:solidFill>
                <a:latin typeface="Arial"/>
              </a:rPr>
              <a:t>w produktach też pod nazwą: </a:t>
            </a:r>
            <a:r>
              <a:rPr b="0" lang="pl-PL" sz="2000" spc="-1" strike="noStrike">
                <a:solidFill>
                  <a:srgbClr val="3366ff"/>
                </a:solidFill>
                <a:latin typeface="Arial"/>
              </a:rPr>
              <a:t>„oleje uwodornione”</a:t>
            </a:r>
            <a:r>
              <a:rPr b="0" lang="pl-PL" sz="2000" spc="-1" strike="noStrike">
                <a:solidFill>
                  <a:srgbClr val="ffffff"/>
                </a:solidFill>
                <a:latin typeface="Arial"/>
              </a:rPr>
              <a:t> lub „oleje </a:t>
            </a:r>
            <a:r>
              <a:rPr b="0" lang="pl-PL" sz="2000" spc="-1" strike="noStrike">
                <a:solidFill>
                  <a:srgbClr val="3366ff"/>
                </a:solidFill>
                <a:latin typeface="Arial"/>
              </a:rPr>
              <a:t>częściowo utwardzone”.</a:t>
            </a:r>
            <a:r>
              <a:rPr b="0" lang="pl-PL" sz="2000" spc="-1" strike="noStrike">
                <a:solidFill>
                  <a:srgbClr val="ffffff"/>
                </a:solidFill>
                <a:latin typeface="Arial"/>
              </a:rPr>
              <a:t> Ważna zasada: im wyższe zajmują miejsce na liście składników, tym większa jest ich zawartość w produkcie. Uważaj też na stosowany przez producentów chwyt: jeśli np. pasztecik składa się z dwóch elementów, producent na pierwszym miejscu podaje składnik wolny od tłuszczu albo ten, w którym tłuszczu jest mało (np. nadzienie), dopiero na drugim miejscu umieszcza składnik, gdzie tłuszczu jest dużo (np. ciast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Zawartość Niezbędnych Nienasyconych Kwasów Tłuszczowych  w wybranych tłuszczach, %:</a:t>
            </a:r>
            <a:endParaRPr b="0" lang="en-US" sz="2800" spc="-1" strike="noStrike">
              <a:solidFill>
                <a:srgbClr val="ffffff"/>
              </a:solidFill>
              <a:latin typeface="Arial"/>
            </a:endParaRPr>
          </a:p>
        </p:txBody>
      </p:sp>
      <p:sp>
        <p:nvSpPr>
          <p:cNvPr id="186" name="PlaceHolder 2"/>
          <p:cNvSpPr>
            <a:spLocks noGrp="1"/>
          </p:cNvSpPr>
          <p:nvPr>
            <p:ph/>
          </p:nvPr>
        </p:nvSpPr>
        <p:spPr>
          <a:xfrm>
            <a:off x="457200" y="1218960"/>
            <a:ext cx="8229600" cy="5257800"/>
          </a:xfrm>
          <a:prstGeom prst="rect">
            <a:avLst/>
          </a:prstGeom>
          <a:noFill/>
          <a:ln w="0">
            <a:noFill/>
          </a:ln>
        </p:spPr>
        <p:txBody>
          <a:bodyPr anchor="t">
            <a:normAutofit fontScale="99000"/>
          </a:bodyPr>
          <a:p>
            <a:pPr marL="603360" indent="-603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łoneczni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20-75</a:t>
            </a:r>
            <a:endParaRPr b="0" lang="en-US" sz="3200" spc="-1" strike="noStrike">
              <a:solidFill>
                <a:srgbClr val="ffffff"/>
              </a:solidFill>
              <a:latin typeface="Arial"/>
            </a:endParaRPr>
          </a:p>
          <a:p>
            <a:pPr marL="603360" indent="-603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oj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56-66</a:t>
            </a:r>
            <a:endParaRPr b="0" lang="en-US" sz="3200" spc="-1" strike="noStrike">
              <a:solidFill>
                <a:srgbClr val="ffffff"/>
              </a:solidFill>
              <a:latin typeface="Arial"/>
            </a:endParaRPr>
          </a:p>
          <a:p>
            <a:pPr marL="603360" indent="-603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ub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8-52</a:t>
            </a:r>
            <a:endParaRPr b="0" lang="en-US" sz="3200" spc="-1" strike="noStrike">
              <a:solidFill>
                <a:srgbClr val="ffffff"/>
              </a:solidFill>
              <a:latin typeface="Arial"/>
            </a:endParaRPr>
          </a:p>
          <a:p>
            <a:pPr marL="603360" indent="-60336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rzepa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6-36</a:t>
            </a:r>
            <a:endParaRPr b="0" lang="en-US" sz="3200" spc="-1" strike="noStrike">
              <a:solidFill>
                <a:srgbClr val="ffffff"/>
              </a:solidFill>
              <a:latin typeface="Arial"/>
            </a:endParaRPr>
          </a:p>
          <a:p>
            <a:pPr marL="603360" indent="-60336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ost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7-30</a:t>
            </a:r>
            <a:endParaRPr b="0" lang="en-US" sz="3200" spc="-1" strike="noStrike">
              <a:solidFill>
                <a:srgbClr val="ffffff"/>
              </a:solidFill>
              <a:latin typeface="Arial"/>
            </a:endParaRPr>
          </a:p>
          <a:p>
            <a:pPr marL="603360" indent="-60336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palm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7-13</a:t>
            </a:r>
            <a:endParaRPr b="0" lang="en-US" sz="3200" spc="-1" strike="noStrike">
              <a:solidFill>
                <a:srgbClr val="ffffff"/>
              </a:solidFill>
              <a:latin typeface="Arial"/>
            </a:endParaRPr>
          </a:p>
          <a:p>
            <a:pPr marL="603360" indent="-60336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iwa z oliwek</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4-15</a:t>
            </a:r>
            <a:endParaRPr b="0" lang="en-US" sz="3200" spc="-1" strike="noStrike">
              <a:solidFill>
                <a:srgbClr val="ffffff"/>
              </a:solidFill>
              <a:latin typeface="Arial"/>
            </a:endParaRPr>
          </a:p>
          <a:p>
            <a:pPr marL="603360" indent="-60336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Smalec</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6-10</a:t>
            </a:r>
            <a:endParaRPr b="0" lang="en-US" sz="3200" spc="-1" strike="noStrike">
              <a:solidFill>
                <a:srgbClr val="ffffff"/>
              </a:solidFill>
              <a:latin typeface="Arial"/>
            </a:endParaRPr>
          </a:p>
          <a:p>
            <a:pPr marL="603360" indent="-60336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sło</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2-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28240" y="457200"/>
            <a:ext cx="8458200" cy="6400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ontrola apetytu jest bardzo złożona. </a:t>
            </a:r>
            <a:br>
              <a:rPr sz="2800"/>
            </a:br>
            <a:r>
              <a:rPr b="0" lang="pl-PL" sz="2800" spc="-1" strike="noStrike">
                <a:solidFill>
                  <a:srgbClr val="ffffff"/>
                </a:solidFill>
                <a:latin typeface="Arial"/>
              </a:rPr>
              <a:t>Biorą w niej udział hormony, które dają znać mózgowi, aby regulował bilans energii, głód </a:t>
            </a:r>
            <a:br>
              <a:rPr sz="2800"/>
            </a:br>
            <a:r>
              <a:rPr b="0" lang="pl-PL" sz="2800" spc="-1" strike="noStrike">
                <a:solidFill>
                  <a:srgbClr val="ffffff"/>
                </a:solidFill>
                <a:latin typeface="Arial"/>
              </a:rPr>
              <a:t>i sytość.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zenie nie jest jednak wyłącznie kwestią tych regulacji; to także miłe doświadczenie, w które zaangażowane są mózgowe „centra nagród”. Połączenie uczucia przyjemności oraz jedzenia może czasami „zagłuszyć” normalną regulację sytości. Wcześniejsze badania wykazały, że bezwartościowy pokarm, bogaty w tłuszcz </a:t>
            </a:r>
            <a:br>
              <a:rPr sz="2800"/>
            </a:br>
            <a:r>
              <a:rPr b="0" lang="pl-PL" sz="2800" spc="-1" strike="noStrike">
                <a:solidFill>
                  <a:srgbClr val="ffffff"/>
                </a:solidFill>
                <a:latin typeface="Arial"/>
              </a:rPr>
              <a:t>i cukier, powstrzymuje sygnały sytości, dając uczucie głodu, a jednocześnie stymuluje centra nagr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8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Pokarm możemy traktować jako paliwo dostarczające nam energii. Jego wartość energetyczną specjaliści od żywienia mierzą w jednostkach opartych na pomiarze temperatury, nazywanych kaloriami.</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m jest kaloria?</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Z definicji - 1 kaloria oznacza ilość energii potrzebnej do ogrzania 1g wody o 1°C.</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 praktyce do opisu wartości energetycznych pokarmów używa się kilokalorii (kcal).</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na kilokaloria to 1000 kalorii.</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endParaRPr b="0" lang="en-US" sz="2000" spc="-1" strike="noStrike">
              <a:solidFill>
                <a:srgbClr val="ffffff"/>
              </a:solidFill>
              <a:latin typeface="Arial"/>
            </a:endParaRPr>
          </a:p>
        </p:txBody>
      </p:sp>
      <p:pic>
        <p:nvPicPr>
          <p:cNvPr id="165" name="Picture 4" descr=""/>
          <p:cNvPicPr/>
          <p:nvPr/>
        </p:nvPicPr>
        <p:blipFill>
          <a:blip r:embed="rId1"/>
          <a:stretch/>
        </p:blipFill>
        <p:spPr>
          <a:xfrm>
            <a:off x="7010280" y="5181480"/>
            <a:ext cx="1600200" cy="1238400"/>
          </a:xfrm>
          <a:prstGeom prst="rect">
            <a:avLst/>
          </a:prstGeom>
          <a:ln w="0">
            <a:noFill/>
          </a:ln>
        </p:spPr>
      </p:pic>
      <p:pic>
        <p:nvPicPr>
          <p:cNvPr id="166" name="Picture 5" descr=""/>
          <p:cNvPicPr/>
          <p:nvPr/>
        </p:nvPicPr>
        <p:blipFill>
          <a:blip r:embed="rId2"/>
          <a:stretch/>
        </p:blipFill>
        <p:spPr>
          <a:xfrm>
            <a:off x="7315200" y="2362320"/>
            <a:ext cx="1219320" cy="1031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28600" y="-360"/>
            <a:ext cx="8686800" cy="6629400"/>
          </a:xfrm>
          <a:prstGeom prst="rect">
            <a:avLst/>
          </a:prstGeom>
          <a:noFill/>
          <a:ln w="0">
            <a:noFill/>
          </a:ln>
        </p:spPr>
        <p:txBody>
          <a:bodyPr anchor="t">
            <a:normAutofit fontScale="99000"/>
          </a:bodyPr>
          <a:p>
            <a:pPr indent="0" algn="just">
              <a:lnSpc>
                <a:spcPct val="80000"/>
              </a:lnSpc>
              <a:spcBef>
                <a:spcPts val="700"/>
              </a:spcBef>
              <a:buNone/>
              <a:tabLst>
                <a:tab algn="l" pos="1976400"/>
                <a:tab algn="l" pos="323064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 WIESZ CO JESZ? – pokarm to nie tylko źródło energii…</a:t>
            </a: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Badacze z Uniwersytetu w Sztokholmie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2002 r. niespodziewanie odkryli akrylamid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produktach spożywczych, a od tego czasu potwierdzono jego obecność w wielu produktach wytwarzanych lub przetwarzanych w wysokich temperaturach.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Początkowo akrylamid był znany tylko z zastosowania przemysłowego, w takich procesach, jak produkcja plastiku, gum, papieru i kosmetyków. Akrylamid jest substancją neurotoksyczną. Oznacza to, że w wysokich dawkach wykazuje własności </a:t>
            </a:r>
            <a:r>
              <a:rPr b="0" lang="pl-PL" sz="2600" spc="-1" strike="noStrike" u="sng">
                <a:solidFill>
                  <a:srgbClr val="ffffff"/>
                </a:solidFill>
                <a:uFillTx/>
                <a:latin typeface="Arial"/>
              </a:rPr>
              <a:t>uszkadzania tkanki nerwowej.</a:t>
            </a:r>
            <a:endParaRPr b="0" lang="en-US" sz="26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pic>
        <p:nvPicPr>
          <p:cNvPr id="189" name="Picture 6" descr=""/>
          <p:cNvPicPr/>
          <p:nvPr/>
        </p:nvPicPr>
        <p:blipFill>
          <a:blip r:embed="rId1"/>
          <a:stretch/>
        </p:blipFill>
        <p:spPr>
          <a:xfrm>
            <a:off x="7238880" y="1066680"/>
            <a:ext cx="145908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u="sng">
                <a:solidFill>
                  <a:srgbClr val="ffffff"/>
                </a:solidFill>
                <a:uFillTx/>
                <a:latin typeface="Arial"/>
              </a:rPr>
              <a:t>Akrylamid</a:t>
            </a:r>
            <a:r>
              <a:rPr b="0" lang="pl-PL" sz="2400" spc="-1" strike="noStrike">
                <a:solidFill>
                  <a:srgbClr val="ffffff"/>
                </a:solidFill>
                <a:latin typeface="Arial"/>
              </a:rPr>
              <a:t> w pożywieniu tworzy się podczas procesów wymagających ogrzewania co najmniej do temperatury 120 st. C, a wiec podczas smażenia i pieczenia.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ubstancję tę znajdowano na przykład: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e fryt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ipsach ziemniaczan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herbatni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rakers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rup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łatkach śniadaniow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mażonych ziemnia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ieczywie,</a:t>
            </a:r>
            <a:endParaRPr b="0" lang="en-US" sz="2400" spc="-1" strike="noStrike">
              <a:solidFill>
                <a:srgbClr val="ffffff"/>
              </a:solidFill>
              <a:latin typeface="Arial"/>
            </a:endParaRPr>
          </a:p>
          <a:p>
            <a:pPr marL="343080" indent="-343080" algn="just">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wie.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W następnych badaniach wykryto akrylamid również </a:t>
            </a:r>
            <a:br>
              <a:rPr sz="2400"/>
            </a:br>
            <a:r>
              <a:rPr b="0" lang="pl-PL" sz="2400" spc="-1" strike="noStrike">
                <a:solidFill>
                  <a:srgbClr val="ffffff"/>
                </a:solidFill>
                <a:latin typeface="Arial"/>
              </a:rPr>
              <a:t>w </a:t>
            </a:r>
            <a:r>
              <a:rPr b="0" lang="pl-PL" sz="2400" spc="-1" strike="noStrike" u="sng">
                <a:solidFill>
                  <a:srgbClr val="ffffff"/>
                </a:solidFill>
                <a:uFillTx/>
                <a:latin typeface="Arial"/>
              </a:rPr>
              <a:t>suszonych owocach, pieczonych warzywach, </a:t>
            </a:r>
            <a:br>
              <a:rPr sz="2400"/>
            </a:br>
            <a:r>
              <a:rPr b="0" lang="pl-PL" sz="2400" spc="-1" strike="noStrike" u="sng">
                <a:solidFill>
                  <a:srgbClr val="ffffff"/>
                </a:solidFill>
                <a:uFillTx/>
                <a:latin typeface="Arial"/>
              </a:rPr>
              <a:t>w czarnych oliwkach oraz w niektórych gatunkach pieczonych orzechó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1" name="Picture 5" descr=""/>
          <p:cNvPicPr/>
          <p:nvPr/>
        </p:nvPicPr>
        <p:blipFill>
          <a:blip r:embed="rId10"/>
          <a:stretch/>
        </p:blipFill>
        <p:spPr>
          <a:xfrm>
            <a:off x="6934320" y="1905120"/>
            <a:ext cx="168732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u="sng">
                <a:solidFill>
                  <a:srgbClr val="ffffff"/>
                </a:solidFill>
                <a:uFillTx/>
                <a:latin typeface="Arial"/>
              </a:rPr>
              <a:t>W jaki sposób akrylamid tworzy się </a:t>
            </a:r>
            <a:br>
              <a:rPr sz="3200"/>
            </a:br>
            <a:r>
              <a:rPr b="0" lang="pl-PL" sz="3200" spc="-1" strike="noStrike" u="sng">
                <a:solidFill>
                  <a:srgbClr val="ffffff"/>
                </a:solidFill>
                <a:uFillTx/>
                <a:latin typeface="Arial"/>
              </a:rPr>
              <a:t>w produktach spożywczych?</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Podczas ogrzewania dochodzi do kaskady reakcji chemicznych, które prowadzą do „brązowienia” żywności oraz do powstawania szeregu związków, które mają własności nadawania jej smaku </a:t>
            </a:r>
            <a:br>
              <a:rPr sz="3200"/>
            </a:br>
            <a:r>
              <a:rPr b="0" lang="pl-PL" sz="3200" spc="-1" strike="noStrike">
                <a:solidFill>
                  <a:srgbClr val="ffffff"/>
                </a:solidFill>
                <a:latin typeface="Arial"/>
              </a:rPr>
              <a:t>i aromatu. Wszystkie te związki nadają podgrzanej żywności charakterystyczny zapach, np. opiekanie mięsa czy pieczyw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4" descr=""/>
          <p:cNvPicPr/>
          <p:nvPr/>
        </p:nvPicPr>
        <p:blipFill>
          <a:blip r:embed="rId1"/>
          <a:stretch/>
        </p:blipFill>
        <p:spPr>
          <a:xfrm>
            <a:off x="7315200" y="0"/>
            <a:ext cx="1828800" cy="1231920"/>
          </a:xfrm>
          <a:prstGeom prst="rect">
            <a:avLst/>
          </a:prstGeom>
          <a:ln w="0">
            <a:noFill/>
          </a:ln>
        </p:spPr>
      </p:pic>
      <p:pic>
        <p:nvPicPr>
          <p:cNvPr id="194" name="Picture 6" descr=""/>
          <p:cNvPicPr/>
          <p:nvPr/>
        </p:nvPicPr>
        <p:blipFill>
          <a:blip r:embed="rId2"/>
          <a:stretch/>
        </p:blipFill>
        <p:spPr>
          <a:xfrm>
            <a:off x="4500720" y="3357720"/>
            <a:ext cx="142560" cy="14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Jakie stężenie akrylamidu stwierdza się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w produktach spożywczych?</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Uczeni są zgodni, że najwyższe stężenie akrylamidu znajduje się produktach, które są długo smażone, smażone w głębokim tłuszczu lub pieczone.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Największy udział w ogólnym spożyciu akrylamidu w większości państw mają następujące produkty: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ipsy ziemniaczane (16-3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rupki ziemniaczane (6-46%),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awa (13-39%),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iasta, ciastka i herbatniki (10-2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leb i inne gatunki pieczywa (10-30%).</a:t>
            </a:r>
            <a:endParaRPr b="0" lang="en-US" sz="2800" spc="-1" strike="noStrike">
              <a:solidFill>
                <a:srgbClr val="ffffff"/>
              </a:solidFill>
              <a:latin typeface="Arial"/>
            </a:endParaRPr>
          </a:p>
        </p:txBody>
      </p:sp>
      <p:pic>
        <p:nvPicPr>
          <p:cNvPr id="196" name="Picture 6" descr=""/>
          <p:cNvPicPr/>
          <p:nvPr/>
        </p:nvPicPr>
        <p:blipFill>
          <a:blip r:embed="rId6"/>
          <a:stretch/>
        </p:blipFill>
        <p:spPr>
          <a:xfrm>
            <a:off x="7162920" y="3809880"/>
            <a:ext cx="138888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Dotychczas nie wykryto w ogóle akrylamidu w produktach gotowanych </a:t>
            </a:r>
            <a:br>
              <a:rPr sz="3200"/>
            </a:br>
            <a:r>
              <a:rPr b="0" lang="pl-PL" sz="3200" spc="-1" strike="noStrike">
                <a:solidFill>
                  <a:srgbClr val="ffffff"/>
                </a:solidFill>
                <a:latin typeface="Arial"/>
              </a:rPr>
              <a:t>i gotowanych na parze. Ten fakt można łatwo wytłumaczyć – podczas gotowania temperatura nie przekracza 100 st. C i nie zachodzą reakcje brązowien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228240"/>
            <a:ext cx="8229600" cy="8001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DIABEŁ TKWI W AKRYLAMIDZIE</a:t>
            </a:r>
            <a:br>
              <a:rPr sz="2400"/>
            </a:br>
            <a:endParaRPr b="0" lang="en-US" sz="24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dostaje się do ludzkiego organizmu trzema drogami: </a:t>
            </a:r>
            <a:endParaRPr b="0" lang="en-US" sz="2200" spc="-1" strike="noStrike">
              <a:solidFill>
                <a:srgbClr val="ffffff"/>
              </a:solidFill>
              <a:latin typeface="Arial"/>
            </a:endParaRPr>
          </a:p>
          <a:p>
            <a:pPr marL="343080" indent="12600" algn="just">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pokarmowy</a:t>
            </a:r>
            <a:endParaRPr b="0" lang="en-US" sz="2200" spc="-1" strike="noStrike">
              <a:solidFill>
                <a:srgbClr val="ffffff"/>
              </a:solidFill>
              <a:latin typeface="Arial"/>
            </a:endParaRPr>
          </a:p>
          <a:p>
            <a:pPr marL="343080" indent="126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kórę – zawarty jest w kosmetykach i w wodzie </a:t>
            </a:r>
            <a:endParaRPr b="0" lang="en-US" sz="2200" spc="-1" strike="noStrike">
              <a:solidFill>
                <a:srgbClr val="ffffff"/>
              </a:solidFill>
              <a:latin typeface="Arial"/>
            </a:endParaRPr>
          </a:p>
          <a:p>
            <a:pPr marL="343080" indent="126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oddechowy - duże jego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ilości powstają w czasie palenia</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pierosów. Dlatego palacze tytoniu oraz bierni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lacze mają kilkakrotnie wyższy poziom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u niż ludzie niepalący.</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jest trucizną, a dawka trucizny jest przeliczana na kilogram masy ciała. Zatem, po spożyciu paczki chipsów dzieci będą mieć więcej akrylamidu na kilogram masy ciała niż na przykład dorosły mężczyzna ważący 80-90 kg" - wyjaśnił prof. Naruszewicz (Warszawski Instytut Medyczny, Instytut Żywności i Żywienia). Dlatego, dla dzieci i młodzieży tego typu żywność jest szczególnie niebezpieczna. Stałe spożywanie chipsów i frytek może silnie wpływać na centralny układ nerwowy, a to będzie się przekładać m.in. na niepowodzenia w szkole.</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pic>
        <p:nvPicPr>
          <p:cNvPr id="199" name="Picture 4" descr=""/>
          <p:cNvPicPr/>
          <p:nvPr/>
        </p:nvPicPr>
        <p:blipFill>
          <a:blip r:embed="rId4"/>
          <a:stretch/>
        </p:blipFill>
        <p:spPr>
          <a:xfrm>
            <a:off x="7010280" y="2057400"/>
            <a:ext cx="1700280" cy="175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0"/>
            <a:ext cx="82296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e badania wykazały, że regularne spożywanie chipsów powodowało w organizmie przewlekły stan zapalny, podobnie jak przy przewlekłej infekcji” – wyjaśnił prof. Naruszewicz.</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Jego zdaniem, zmiany te były spowodowane tym, że akrylamid znacznie obniżał w organizmie zapasy naturalnego przeciwutleniacza – glutationu (GSH). Jego rola polega na neutralizacji wolnych rodników tlenowych, które uszkadzają komórki i w ten sposób przyczyniają się do starzenia tkanek, rozwoju nowotworów oraz chorób serca i układu krążenia.</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 organizm broni się przed trucizną, jaką jest akrylamid, przez łączenie go z glutationem i wydalenie tego kompleksu na zewnątrz. To powoduje, że </a:t>
            </a:r>
            <a:br>
              <a:rPr sz="2400"/>
            </a:br>
            <a:r>
              <a:rPr b="0" lang="pl-PL" sz="2400" spc="-1" strike="noStrike">
                <a:solidFill>
                  <a:srgbClr val="ffffff"/>
                </a:solidFill>
                <a:latin typeface="Arial"/>
              </a:rPr>
              <a:t>w komórkach zaczyna spadać poziom glutationu, </a:t>
            </a:r>
            <a:br>
              <a:rPr sz="2400"/>
            </a:br>
            <a:r>
              <a:rPr b="0" lang="pl-PL" sz="2400" spc="-1" strike="noStrike">
                <a:solidFill>
                  <a:srgbClr val="ffffff"/>
                </a:solidFill>
                <a:latin typeface="Arial"/>
              </a:rPr>
              <a:t>a zapasy, który pozostają już nie wystarczają, by przeciwdziałać powstawaniu wolnych rodników. Można więc powiedzieć, że jedząc chipsy sami pozbawiamy się naturalnych mechanizmów obronnych” – mówił prof. Naruszewic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60" y="228240"/>
            <a:ext cx="8915400" cy="7010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800" spc="-1" strike="noStrike">
                <a:solidFill>
                  <a:srgbClr val="ffffff"/>
                </a:solidFill>
                <a:latin typeface="Arial"/>
              </a:rPr>
              <a:t>“</a:t>
            </a:r>
            <a:r>
              <a:rPr b="0" lang="pl-PL" sz="2800" spc="-1" strike="noStrike">
                <a:solidFill>
                  <a:srgbClr val="ffffff"/>
                </a:solidFill>
                <a:latin typeface="Arial"/>
              </a:rPr>
              <a:t>Nasza praca jako pierwsza na świecie dowodzi, jak duże są zagrożenia dla zdrowia z powodu regularnego spożywania chipsów. Stanowi ona jeszcze jeden argument w dyskusji, że powinno się zrobić wszystko, by zmniejszyć spożycie tego rodzaju “śmieciowej żywności” szczególnie przez dzieci i młodzież” – podkreślił prof. Naruszewicz. Zdaniem badacza, powinna ona zniknąć ze sklepików szkolnych, a decyzja na ten temat powinna być podjęta na poziomie rządowym. Również rodzice powinni mieć świadomość, że kupując chipsy narażają dzieci na ogromne problemy zdrowotne w przyszłości.</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28600" y="304920"/>
            <a:ext cx="822960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a:t>
            </a:r>
            <a:r>
              <a:rPr b="0" lang="pl-PL" sz="3200" spc="-1" strike="noStrike">
                <a:solidFill>
                  <a:srgbClr val="ffffff"/>
                </a:solidFill>
                <a:latin typeface="Arial"/>
              </a:rPr>
              <a:t>Chipsy to przekleństwo </a:t>
            </a:r>
            <a:br>
              <a:rPr sz="3200"/>
            </a:br>
            <a:r>
              <a:rPr b="0" lang="pl-PL" sz="3200" spc="-1" strike="noStrike">
                <a:solidFill>
                  <a:srgbClr val="ffffff"/>
                </a:solidFill>
                <a:latin typeface="Arial"/>
              </a:rPr>
              <a:t>dla dzieci i młodzieży, </a:t>
            </a:r>
            <a:br>
              <a:rPr sz="3200"/>
            </a:br>
            <a:r>
              <a:rPr b="0" lang="pl-PL" sz="3200" spc="-1" strike="noStrike">
                <a:solidFill>
                  <a:srgbClr val="ffffff"/>
                </a:solidFill>
                <a:latin typeface="Arial"/>
              </a:rPr>
              <a:t>bo trzeba pamiętać, że zawierają </a:t>
            </a:r>
            <a:br>
              <a:rPr sz="3200"/>
            </a:br>
            <a:r>
              <a:rPr b="0" lang="pl-PL" sz="3200" spc="-1" strike="noStrike">
                <a:solidFill>
                  <a:srgbClr val="ffffff"/>
                </a:solidFill>
                <a:latin typeface="Arial"/>
              </a:rPr>
              <a:t>nie tylko akrylamid, ale też duże ilości </a:t>
            </a:r>
            <a:br>
              <a:rPr sz="3200"/>
            </a:br>
            <a:r>
              <a:rPr b="0" lang="pl-PL" sz="3200" spc="-1" strike="noStrike">
                <a:solidFill>
                  <a:srgbClr val="ffffff"/>
                </a:solidFill>
                <a:latin typeface="Arial"/>
              </a:rPr>
              <a:t>soli i kalorii pochodzących </a:t>
            </a:r>
            <a:br>
              <a:rPr sz="3200"/>
            </a:br>
            <a:r>
              <a:rPr b="0" lang="pl-PL" sz="3200" spc="-1" strike="noStrike">
                <a:solidFill>
                  <a:srgbClr val="ffffff"/>
                </a:solidFill>
                <a:latin typeface="Arial"/>
              </a:rPr>
              <a:t>z tłuszczów złej jakości, bo mocno ogrzanych” (prof. Naruszewicz)</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45c984"/>
                </a:solidFill>
                <a:uFillTx/>
                <a:latin typeface="Arial"/>
              </a:rPr>
              <a:t>	</a:t>
            </a:r>
            <a:r>
              <a:rPr b="1" lang="pl-PL" sz="3200" spc="-1" strike="noStrike" u="sng">
                <a:solidFill>
                  <a:srgbClr val="45c984"/>
                </a:solidFill>
                <a:uFillTx/>
                <a:latin typeface="Arial"/>
              </a:rPr>
              <a:t>Produkt dla dzieci zakazany, </a:t>
            </a:r>
            <a:br>
              <a:rPr sz="3200"/>
            </a:br>
            <a:r>
              <a:rPr b="1" lang="pl-PL" sz="3200" spc="-1" strike="noStrike" u="sng">
                <a:solidFill>
                  <a:srgbClr val="45c984"/>
                </a:solidFill>
                <a:uFillTx/>
                <a:latin typeface="Arial"/>
              </a:rPr>
              <a:t>bez żadnych odstępstw od tej reguły!</a:t>
            </a:r>
            <a:endParaRPr b="0" lang="en-US" sz="3200" spc="-1" strike="noStrike">
              <a:solidFill>
                <a:srgbClr val="ffffff"/>
              </a:solidFill>
              <a:latin typeface="Arial"/>
            </a:endParaRPr>
          </a:p>
        </p:txBody>
      </p:sp>
      <p:pic>
        <p:nvPicPr>
          <p:cNvPr id="203" name="Picture 4" descr=""/>
          <p:cNvPicPr/>
          <p:nvPr/>
        </p:nvPicPr>
        <p:blipFill>
          <a:blip r:embed="rId1"/>
          <a:stretch/>
        </p:blipFill>
        <p:spPr>
          <a:xfrm>
            <a:off x="7086600" y="3352680"/>
            <a:ext cx="1104840" cy="1105200"/>
          </a:xfrm>
          <a:prstGeom prst="rect">
            <a:avLst/>
          </a:prstGeom>
          <a:ln w="0">
            <a:noFill/>
          </a:ln>
        </p:spPr>
      </p:pic>
      <p:pic>
        <p:nvPicPr>
          <p:cNvPr id="204" name="Picture 5" descr=""/>
          <p:cNvPicPr/>
          <p:nvPr/>
        </p:nvPicPr>
        <p:blipFill>
          <a:blip r:embed="rId2"/>
          <a:stretch/>
        </p:blipFill>
        <p:spPr>
          <a:xfrm>
            <a:off x="7772400" y="4038480"/>
            <a:ext cx="1104840" cy="1105200"/>
          </a:xfrm>
          <a:prstGeom prst="rect">
            <a:avLst/>
          </a:prstGeom>
          <a:ln w="0">
            <a:noFill/>
          </a:ln>
        </p:spPr>
      </p:pic>
      <p:pic>
        <p:nvPicPr>
          <p:cNvPr id="205" name="Picture 6" descr=""/>
          <p:cNvPicPr/>
          <p:nvPr/>
        </p:nvPicPr>
        <p:blipFill>
          <a:blip r:embed="rId3"/>
          <a:stretch/>
        </p:blipFill>
        <p:spPr>
          <a:xfrm>
            <a:off x="7543800" y="228600"/>
            <a:ext cx="137304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51920"/>
            <a:ext cx="8229600" cy="6705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Musimy pamiętać, że choroby układu krążenia czy nowotwory mogą się rozwijać 30-40 lat i dopiero po tym okresie ujawnić w postaci zawału czy nowotworu. Dlatego tak ważne jest dbanie o zdrową dietę – bogatą w warzywa, owoce, produkty </a:t>
            </a:r>
            <a:br>
              <a:rPr sz="3200"/>
            </a:br>
            <a:r>
              <a:rPr b="0" lang="pl-PL" sz="3200" spc="-1" strike="noStrike">
                <a:solidFill>
                  <a:srgbClr val="ffffff"/>
                </a:solidFill>
                <a:latin typeface="Arial"/>
              </a:rPr>
              <a:t>z pełnego ziarna, a ubogą w tłuszcze; rzucenie palenia oraz aktywność fizyczna. Już dzisiaj obserwujemy wzrost liczby dzieci i młodzieży z nadciśnieniem tętniczym.</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1" lang="pl-PL" sz="3200" spc="-1" strike="noStrike">
                <a:solidFill>
                  <a:srgbClr val="ffffff"/>
                </a:solidFill>
                <a:latin typeface="Arial"/>
              </a:rPr>
              <a:t>Dziennie zapotrzebowanie energetyczne zależy od trybu życi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Jeżeli prowadzisz aktywny </a:t>
            </a:r>
            <a:r>
              <a:rPr b="0" lang="pl-PL" sz="3200" spc="-1" strike="noStrike" u="sng">
                <a:solidFill>
                  <a:srgbClr val="86d1ec"/>
                </a:solidFill>
                <a:uFillTx/>
                <a:latin typeface="Arial"/>
                <a:hlinkClick r:id="rId1"/>
              </a:rPr>
              <a:t>tryb życia</a:t>
            </a:r>
            <a:r>
              <a:rPr b="0" lang="pl-PL" sz="3200" spc="-1" strike="noStrike">
                <a:solidFill>
                  <a:srgbClr val="ffffff"/>
                </a:solidFill>
                <a:latin typeface="Arial"/>
              </a:rPr>
              <a:t> Twoje zapotrzebowanie energetyczne będzie sporo większe.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2800" spc="-1" strike="noStrike">
                <a:solidFill>
                  <a:srgbClr val="ffffff"/>
                </a:solidFill>
                <a:latin typeface="Arial"/>
              </a:rPr>
              <a:t>Przeciętnie zapotrzebowanie energetyczne kobiety wynosi około 1 300 kcal a mężczyzny około 1 600 k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8" name="Picture 4" descr=""/>
          <p:cNvPicPr/>
          <p:nvPr/>
        </p:nvPicPr>
        <p:blipFill>
          <a:blip r:embed="rId2"/>
          <a:stretch/>
        </p:blipFill>
        <p:spPr>
          <a:xfrm>
            <a:off x="5791320" y="3352680"/>
            <a:ext cx="2438280" cy="96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60" y="228240"/>
            <a:ext cx="8915400" cy="6629400"/>
          </a:xfrm>
          <a:prstGeom prst="rect">
            <a:avLst/>
          </a:prstGeom>
          <a:noFill/>
          <a:ln w="0">
            <a:noFill/>
          </a:ln>
        </p:spPr>
        <p:txBody>
          <a:bodyPr anchor="t">
            <a:normAutofit fontScale="94000"/>
          </a:bodyPr>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CZY WIESZ CO PIJESZ?</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Badania przeprowadzone na żywych komórkach wykazały, że benzoesan sodu </a:t>
            </a:r>
            <a:br>
              <a:rPr sz="3200"/>
            </a:br>
            <a:r>
              <a:rPr b="0" lang="pl-PL" sz="3200" spc="-1" strike="noStrike">
                <a:solidFill>
                  <a:srgbClr val="ffffff"/>
                </a:solidFill>
                <a:latin typeface="Arial"/>
              </a:rPr>
              <a:t>z napojów gazowanych w sposób permanentny </a:t>
            </a:r>
            <a:r>
              <a:rPr b="0" lang="pl-PL" sz="3200" spc="-1" strike="noStrike" u="sng">
                <a:solidFill>
                  <a:srgbClr val="86d1ec"/>
                </a:solidFill>
                <a:uFillTx/>
                <a:latin typeface="Arial"/>
              </a:rPr>
              <a:t>niszczy materiał</a:t>
            </a:r>
            <a:r>
              <a:rPr b="0" lang="pl-PL" sz="3200" spc="-1" strike="noStrike">
                <a:solidFill>
                  <a:srgbClr val="ffffff"/>
                </a:solidFill>
                <a:latin typeface="Arial"/>
              </a:rPr>
              <a:t> genetyczny znajdujący się w mitochondrium (stanowią one główne źródło energii dla komórki żywego organizmu, jedna komórka zawiera od kilkudziesięciu do kilkuset tysięcy mitochondriów).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pic>
        <p:nvPicPr>
          <p:cNvPr id="208" name="Picture 4" descr=""/>
          <p:cNvPicPr/>
          <p:nvPr/>
        </p:nvPicPr>
        <p:blipFill>
          <a:blip r:embed="rId1"/>
          <a:stretch/>
        </p:blipFill>
        <p:spPr>
          <a:xfrm>
            <a:off x="7467480" y="380880"/>
            <a:ext cx="1095480" cy="118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066680"/>
            <a:ext cx="8229600" cy="4530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Mitochondrium wykorzystuje tlen, aby wyprodukować energię na potrzeby komórki, i jeśli zostanie uszkodzone, wtedy komórka staje się po prostu niesprawna. I właśnie tutaj pojawia się cały szereg chorób związanych z niszczeniem DNA, Choroba Parkinsona i wiele innych - a ponad nimi wszystkimi - cały proces starzenia.</a:t>
            </a:r>
            <a:r>
              <a:rPr b="0" lang="pl-PL" sz="2400" spc="-1" strike="noStrike">
                <a:solidFill>
                  <a:srgbClr val="ffffff"/>
                </a:solidFill>
                <a:latin typeface="Arial"/>
              </a:rPr>
              <a:t>” - profesor W. Piper (Uniwersytet Sheffield, Biologia Molekularna i Biotechnologi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Te chemikalia są zdolne do zadania poważnych obrażeń materiałowi genetycznemu zawartemu w mitochondriach, aż do stopnia, w którym stają się one zupełnie nieaktywne. To tak, jakby zostały zupełnie znokautowane!</a:t>
            </a:r>
            <a:r>
              <a:rPr b="0" lang="pl-PL" sz="2400" spc="-1" strike="noStrike">
                <a:solidFill>
                  <a:srgbClr val="ffffff"/>
                </a:solidFill>
                <a:latin typeface="Arial"/>
              </a:rPr>
              <a:t>” - tłumaczy profesor Pip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0" name="Picture 4" descr=""/>
          <p:cNvPicPr/>
          <p:nvPr/>
        </p:nvPicPr>
        <p:blipFill>
          <a:blip r:embed="rId1"/>
          <a:stretch/>
        </p:blipFill>
        <p:spPr>
          <a:xfrm>
            <a:off x="304920" y="304920"/>
            <a:ext cx="476280" cy="1428480"/>
          </a:xfrm>
          <a:prstGeom prst="rect">
            <a:avLst/>
          </a:prstGeom>
          <a:ln w="0">
            <a:noFill/>
          </a:ln>
        </p:spPr>
      </p:pic>
      <p:pic>
        <p:nvPicPr>
          <p:cNvPr id="211" name="Picture 6" descr=""/>
          <p:cNvPicPr/>
          <p:nvPr/>
        </p:nvPicPr>
        <p:blipFill>
          <a:blip r:embed="rId2"/>
          <a:stretch/>
        </p:blipFill>
        <p:spPr>
          <a:xfrm>
            <a:off x="7315200" y="53341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l-PL" sz="4000" spc="-1" strike="noStrike">
                <a:solidFill>
                  <a:srgbClr val="ffffff"/>
                </a:solidFill>
                <a:latin typeface="Arial"/>
              </a:rPr>
              <a:t>Dziękuję za uwagę</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endParaRPr b="0" lang="en-US" sz="40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Życzę zdrowia</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t>
            </a:r>
            <a:r>
              <a:rPr b="0" lang="pl-PL" sz="4400" spc="-1" strike="noStrike">
                <a:solidFill>
                  <a:srgbClr val="ffffff"/>
                </a:solidFill>
                <a:latin typeface="Arial"/>
              </a:rPr>
              <a:t>i smaczneg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r>
              <a:rPr b="0" lang="pl-PL" sz="4000" spc="-1" strike="noStrike">
                <a:solidFill>
                  <a:srgbClr val="ffffff"/>
                </a:solidFill>
                <a:latin typeface="Arial"/>
              </a:rPr>
              <a:t>Wszystkie pokarmy dostarczane do organizmu są źródłem energii, służą do wzrostu oraz regeneracji komórek oraz do podtrzymania podstawowych procesów życiowych takich jak praca serca </a:t>
            </a:r>
            <a:br>
              <a:rPr sz="4000"/>
            </a:br>
            <a:r>
              <a:rPr b="0" lang="pl-PL" sz="4000" spc="-1" strike="noStrike">
                <a:solidFill>
                  <a:srgbClr val="ffffff"/>
                </a:solidFill>
                <a:latin typeface="Arial"/>
              </a:rPr>
              <a:t>i utrzymanie odpowiedniej temperatury ciała.</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70" name="Picture 4" descr=""/>
          <p:cNvPicPr/>
          <p:nvPr/>
        </p:nvPicPr>
        <p:blipFill>
          <a:blip r:embed="rId1"/>
          <a:stretch/>
        </p:blipFill>
        <p:spPr>
          <a:xfrm>
            <a:off x="6400800" y="5029200"/>
            <a:ext cx="2133720" cy="16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ożna wyróżnić pięć głównych składników odżywczy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ffffff"/>
                </a:solidFill>
                <a:uFillTx/>
                <a:latin typeface="Arial"/>
              </a:rPr>
              <a:t>Białk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a to podstawowy budulec komórek </a:t>
            </a:r>
            <a:br>
              <a:rPr sz="3200"/>
            </a:br>
            <a:r>
              <a:rPr b="0" lang="pl-PL" sz="3200" spc="-1" strike="noStrike">
                <a:solidFill>
                  <a:srgbClr val="ffffff"/>
                </a:solidFill>
                <a:latin typeface="Arial"/>
              </a:rPr>
              <a:t>i tkanek w ludzkim organizmie. Są to wielocząsteczkowe związki, w skład których często wchodzą nawet tysiące pojedynczych związków chemicznych.</a:t>
            </a:r>
            <a:endParaRPr b="0" lang="en-US" sz="3200" spc="-1" strike="noStrike">
              <a:solidFill>
                <a:srgbClr val="ffffff"/>
              </a:solidFill>
              <a:latin typeface="Arial"/>
            </a:endParaRPr>
          </a:p>
        </p:txBody>
      </p:sp>
      <p:pic>
        <p:nvPicPr>
          <p:cNvPr id="172" name="Picture 4" descr=""/>
          <p:cNvPicPr/>
          <p:nvPr/>
        </p:nvPicPr>
        <p:blipFill>
          <a:blip r:embed="rId1"/>
          <a:stretch/>
        </p:blipFill>
        <p:spPr>
          <a:xfrm>
            <a:off x="6705720" y="12193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85800"/>
            <a:ext cx="8229600" cy="5867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o jest niezbędnym dla człowieka składnikiem diety. Zapotrzebowanie na nie jest bardzo zróżnicowane. Dorosły człowiek przeciętnie potrzebuje około 0,75g białka na kilogram swojej wagi na dobę. Oznacza to, że osoba ważąca 70 kg powinna spożywać 50 gram białka dziennie. U noworodka ilość ta jest dwukrotnie większa, a u dziecka w wieku </a:t>
            </a:r>
            <a:br>
              <a:rPr sz="3200"/>
            </a:br>
            <a:r>
              <a:rPr b="0" lang="pl-PL" sz="3200" spc="-1" strike="noStrike">
                <a:solidFill>
                  <a:srgbClr val="ffffff"/>
                </a:solidFill>
                <a:latin typeface="Arial"/>
              </a:rPr>
              <a:t>5 lat nawet sześciokrotnie. Zapotrzebowanie na białko jest także zwiększone u kobiet w ciąży, matek karmiących oraz u rekonwalescentó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51920" y="380520"/>
            <a:ext cx="853452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ffffff"/>
                </a:solidFill>
                <a:uFillTx/>
                <a:latin typeface="Arial"/>
              </a:rPr>
              <a:t>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to podstawowe źródło energii dla ludzkiego organizmu. Jeżeli planowany jest duży wysiłek fizyczny, dobrze jest spożyć pokarmy bogate w 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są podstawowym składnikiem diety człowieka. Stanowią one około 60-70% spożywanego pokarmu i pokrywają 25% zapotrzebowania energetycznego organizmu. Praca niektórych organów np. mózgu w 100% czerpie energię z glukozy. Węglowodanem, który spożywamy w największych ilościach jest skrobia, której najwięcej znajduje się w produktach zbożowych i warzywac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skoncentrowanym źródłem energii. Dzielą się na dwa rodzaje - nasycone oraz nienasycone. Tłuszcze nasycone są głównie w produktach mlecznych oraz produktach pochodzenia zwierzęcego. Podwyższają one poziom cholesterolu we krwi. W rezultacie zwiększają ryzyko rozwoju choroby wieńcowej.</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nienasycone są o wiele lepiej tolerowane przez organizm. Nie można całkowicie wyeliminować tłuszczów ze swojej diety. W odpowiedniej ilości są one niezbędne do prawidłowego funkcjonowania organizmu.</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wysoko kaloryczne. 1g tłuszczu to aż 9 kcal. Węglowodany są dwa razy mniej kaloryczne, co znaczy, że możesz zjeść dwa razy większy posiłek składający się z węglowodanów i dostarczysz organizmowi taką samą ilość kalori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mają stosunkowo małą zawartość tlenu, co sprawia, że charakteryzuje je wysoki potencjał energetyczny. Tłuszcze dostarczają 2,5 razy więcej kalorii niż taka sama ilość wagowa węglowodanów.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stanowią bardzo ważny składnik energetyczny naszej diety. Pokrywają one nawet do 50% dziennego zapotrzebowania na energię. Ich obecność jest także niezbędna do prawidłowego wchłaniania rozpuszczalnych </a:t>
            </a:r>
            <a:br>
              <a:rPr sz="2800"/>
            </a:br>
            <a:r>
              <a:rPr b="0" lang="pl-PL" sz="2800" spc="-1" strike="noStrike">
                <a:solidFill>
                  <a:srgbClr val="ffffff"/>
                </a:solidFill>
                <a:latin typeface="Arial"/>
              </a:rPr>
              <a:t>w tłuszczach witamin A, D, E i K.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SSE Toruń - Barbara Andrusiak</cp:lastModifiedBy>
  <dcterms:modified xsi:type="dcterms:W3CDTF">2025-12-12T04:51:15Z</dcterms:modified>
  <cp:revision>3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